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847-1C36-4C1E-ADB0-BD502414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E332-13F2-447D-B73B-7DFAB699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5274-FAC5-49AF-8D7C-1A609530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ACD-2D8F-43F1-A1DF-66755E0B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80DB-1DB5-4641-BE95-0CB1EABC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563-EB33-4905-B627-3E89332C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C353-D39E-4B5A-91A9-68167B8B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88B-38E1-4566-A6EE-E8826320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0D7-66EB-42D4-B5FA-3608526F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800-9DAB-4C5A-969E-DFFE1996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FCC2-26A1-4218-91AA-3124D96B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2C8-63C8-4089-B911-3B93A292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2DFF-A9C5-4BBA-9AAA-CA4B95281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 and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SCOS: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Assess, describe, and explain adaptations affecting survival and reproductive success of Viruses and Micro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: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Bacteria and 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ampling for bacteria in common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ed of DNA or RNA surrounded by a protein coat (caps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ophage is a virus that infects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0160" y="2128680"/>
            <a:ext cx="8692920" cy="3456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74240" y="178920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4 Bacterioph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93760" y="1662120"/>
            <a:ext cx="156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bacco Mosa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84880" y="1967040"/>
            <a:ext cx="101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04720" y="2217600"/>
            <a:ext cx="3167280" cy="2059200"/>
            <a:chOff x="504720" y="2217600"/>
            <a:chExt cx="3167280" cy="2059200"/>
          </a:xfrm>
        </p:grpSpPr>
        <p:sp>
          <p:nvSpPr>
            <p:cNvPr id="74" name=""/>
            <p:cNvSpPr/>
            <p:nvPr/>
          </p:nvSpPr>
          <p:spPr>
            <a:xfrm>
              <a:off x="542880" y="23446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4720" y="3436920"/>
              <a:ext cx="73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il shea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1040" y="221760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1160" y="3817800"/>
              <a:ext cx="69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il fi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244920" y="2585880"/>
            <a:ext cx="2650680" cy="2783160"/>
            <a:chOff x="6244920" y="2585880"/>
            <a:chExt cx="2650680" cy="2783160"/>
          </a:xfrm>
        </p:grpSpPr>
        <p:sp>
          <p:nvSpPr>
            <p:cNvPr id="79" name=""/>
            <p:cNvSpPr/>
            <p:nvPr/>
          </p:nvSpPr>
          <p:spPr>
            <a:xfrm>
              <a:off x="8316360" y="258588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44920" y="271296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0120" y="4719600"/>
              <a:ext cx="72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84800" y="4910040"/>
              <a:ext cx="91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elo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355720" y="2141640"/>
            <a:ext cx="724680" cy="1094040"/>
            <a:chOff x="5355720" y="2141640"/>
            <a:chExt cx="724680" cy="1094040"/>
          </a:xfrm>
        </p:grpSpPr>
        <p:sp>
          <p:nvSpPr>
            <p:cNvPr id="84" name=""/>
            <p:cNvSpPr/>
            <p:nvPr/>
          </p:nvSpPr>
          <p:spPr>
            <a:xfrm>
              <a:off x="5484240" y="21416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55720" y="2776680"/>
              <a:ext cx="72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irus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231840"/>
            <a:ext cx="65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ytic and Lysogenic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17720" y="996840"/>
            <a:ext cx="7078680" cy="4672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689880" y="2703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ro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 RNA and use it to produc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using the enzyme Reverse Transcript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their genetic information is copied backw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a and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cell for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Toxins that destroy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cine: weakened or Killed viruses are injected into the body (Edward Jenn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iotics: compounds that block the growth of bacteria ex. Penicilin (Alexander Flemm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36560" y="2259000"/>
            <a:ext cx="7759800" cy="471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6560" y="2259000"/>
            <a:ext cx="775980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4200" y="2655720"/>
            <a:ext cx="227304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th dec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me 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monella food pois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39560" y="2655720"/>
            <a:ext cx="239508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reptococcus mut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orrelia burgdorf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ostridium teta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almonella enteritid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reptococcus pneumoni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Vibrio choler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66040" y="2643120"/>
            <a:ext cx="261288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ular dental hygi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ction from tick b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tetanus vacc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c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er food-handling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taining good 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n water suppl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8880" y="238608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46760" y="238608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73240" y="238608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73320" y="2259000"/>
            <a:ext cx="248940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31840"/>
            <a:ext cx="6310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mon Diseases Caused by 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ilization: subjecting to extreme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infectants: chemical solution that kills the path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ing and Preserving Food 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68280" y="2259000"/>
            <a:ext cx="6596280" cy="471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68280" y="2259000"/>
            <a:ext cx="6596280" cy="220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86640" y="2655720"/>
            <a:ext cx="16513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ogenic vir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enovir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pesvir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xvir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80640" y="2655720"/>
            <a:ext cx="5554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52680" y="2643120"/>
            <a:ext cx="18997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cer, A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iratory inf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ckenp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88800" y="238608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 of Vi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76680" y="238608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cleic A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57720" y="238608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05040" y="2259000"/>
            <a:ext cx="1498680" cy="220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231840"/>
            <a:ext cx="6310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mon Diseases Caused by 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11280" y="1490760"/>
            <a:ext cx="6095880" cy="4203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82960" y="1866960"/>
            <a:ext cx="13716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should always be found in the body of a sick organism and should not be found in a health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0280" y="1870200"/>
            <a:ext cx="114300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must be isolated and grown in the laboratory in a pure cul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2960" y="4118040"/>
            <a:ext cx="121932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urified pathogens are placed in a new host, they should cause the same disease that infected the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48480" y="4116240"/>
            <a:ext cx="13716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y same pathogen should be reisolated from the second host.  And it should be the same as the original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86080" y="14605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path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39960" y="1434960"/>
            <a:ext cx="135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spected pathogen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53160" y="1562040"/>
            <a:ext cx="20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spected path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0640" y="3720960"/>
            <a:ext cx="163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jection of organisms from pur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70680" y="3720960"/>
            <a:ext cx="11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81360" y="311148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d m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3111480"/>
            <a:ext cx="11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d m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08560" y="5346720"/>
            <a:ext cx="11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d m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311148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althy m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25760" y="5346720"/>
            <a:ext cx="12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althy m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73720" y="2806560"/>
            <a:ext cx="118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spected pathogen grown in pure cul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271440"/>
            <a:ext cx="50767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ch’s Postu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453520" cy="4122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36680" y="2500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3040" y="1916280"/>
            <a:ext cx="89388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440" y="382896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6040" y="4572000"/>
            <a:ext cx="94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2480" y="498492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68320" y="1509840"/>
            <a:ext cx="78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98680" y="1471680"/>
            <a:ext cx="16416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ent That Causes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1760" y="1471680"/>
            <a:ext cx="18162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hod of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97160" y="17845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97160" y="1996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97160" y="232236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97160" y="26161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97160" y="285264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97160" y="319104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ingi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97160" y="34146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97160" y="36115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97160" y="3865680"/>
            <a:ext cx="15238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sleeping sic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97160" y="415908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97160" y="43704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ic dysen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97160" y="45720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stosom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97160" y="477684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f tape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97160" y="499104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lete’s 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97160" y="524016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ng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086280" y="1792440"/>
            <a:ext cx="1854000" cy="3699000"/>
            <a:chOff x="3086280" y="1792440"/>
            <a:chExt cx="1854000" cy="3699000"/>
          </a:xfrm>
        </p:grpSpPr>
        <p:sp>
          <p:nvSpPr>
            <p:cNvPr id="158" name=""/>
            <p:cNvSpPr/>
            <p:nvPr/>
          </p:nvSpPr>
          <p:spPr>
            <a:xfrm>
              <a:off x="3086280" y="179244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hinovir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86280" y="2022480"/>
              <a:ext cx="15238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wo types (A, B), plus subtyp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86280" y="232236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ricel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86280" y="259704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amyxovir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86280" y="2890800"/>
              <a:ext cx="15238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Mycobacterium tuberculo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6280" y="3241800"/>
              <a:ext cx="1854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Neisseria meningitid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86280" y="3440160"/>
              <a:ext cx="1854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Vibrio cholera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86280" y="3646440"/>
              <a:ext cx="1854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Clostridium teta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86280" y="3851280"/>
              <a:ext cx="1854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rypanoso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86280" y="4197240"/>
              <a:ext cx="1854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Plasmodi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6280" y="4395960"/>
              <a:ext cx="1854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ntamoeba histolyt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86280" y="4602240"/>
              <a:ext cx="10666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chistoso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86280" y="4803840"/>
              <a:ext cx="1854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aenia sagin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86280" y="5016600"/>
              <a:ext cx="1854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perfect fung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86280" y="5257800"/>
              <a:ext cx="1854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perfect fung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130720" y="1792440"/>
            <a:ext cx="3759120" cy="3816360"/>
            <a:chOff x="5130720" y="1792440"/>
            <a:chExt cx="3759120" cy="3816360"/>
          </a:xfrm>
        </p:grpSpPr>
        <p:sp>
          <p:nvSpPr>
            <p:cNvPr id="174" name=""/>
            <p:cNvSpPr/>
            <p:nvPr/>
          </p:nvSpPr>
          <p:spPr>
            <a:xfrm>
              <a:off x="5130720" y="1792440"/>
              <a:ext cx="375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irborne; direct contact with infected per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30720" y="2022480"/>
              <a:ext cx="37591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irborne; droplet infection; direct contact with infected per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30720" y="2367000"/>
              <a:ext cx="37591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irborne; direct contact with infected per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30720" y="2570040"/>
              <a:ext cx="37591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roplets in air; direct contact with secretions of infected per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30720" y="2895480"/>
              <a:ext cx="37591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roplets in air; contaminated milk and dairy produ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30720" y="3224160"/>
              <a:ext cx="37591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rect contact with a carri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30720" y="3456000"/>
              <a:ext cx="37591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minated drinking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30720" y="3633840"/>
              <a:ext cx="37591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minated wound; usually puncture wou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30720" y="3851280"/>
              <a:ext cx="22906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read by tsetse f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30720" y="4197240"/>
              <a:ext cx="37591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read by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nophel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mosquito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30720" y="4413240"/>
              <a:ext cx="37591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minated drinking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30720" y="4603680"/>
              <a:ext cx="37591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eshwater streams and rice padd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30720" y="4813200"/>
              <a:ext cx="37591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minated me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30720" y="5032440"/>
              <a:ext cx="37591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ct with infected per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30720" y="5235480"/>
              <a:ext cx="37591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hange of hats, combs, or athletic head gear with infected per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87440" y="1471680"/>
            <a:ext cx="9349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ogen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27280" y="271440"/>
            <a:ext cx="60991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ogens and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2200" y="283860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a &amp;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19-1 in your work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Quiz tomorrow on Bacteria and Vir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celled organisms that lack a nucle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kingdoms of 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bacteria- 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aebacteria – live in extreme habi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90840" y="1411200"/>
            <a:ext cx="5475240" cy="423252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2076840" y="1328760"/>
            <a:ext cx="4616640" cy="4264200"/>
            <a:chOff x="2076840" y="1328760"/>
            <a:chExt cx="4616640" cy="4264200"/>
          </a:xfrm>
        </p:grpSpPr>
        <p:sp>
          <p:nvSpPr>
            <p:cNvPr id="49" name=""/>
            <p:cNvSpPr/>
            <p:nvPr/>
          </p:nvSpPr>
          <p:spPr>
            <a:xfrm>
              <a:off x="2076840" y="1722600"/>
              <a:ext cx="114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ptidoglyc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70360" y="1509840"/>
              <a:ext cx="717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ll w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02000" y="1522440"/>
              <a:ext cx="1035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ll membr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825520" y="1328760"/>
              <a:ext cx="86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bos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62040" y="5291280"/>
              <a:ext cx="84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agell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67080" y="531648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41440" y="52531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Structure of a Eubacte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: Cocci (round), Bacillus (rods), &amp; Spirillus (spir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s: Gram Positive (stain violet because of thick peptidoglycan wall) Gram Negative (stain red; thin w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: no movement, whiplike (flagella), wavelike (cilia), lash, snake or spiral for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bolic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trophs: cannot make their own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trophs: can make own food and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autotrophs use sun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oautotrophs use inorganic mate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easing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d by cellular respiration or fer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te aerobes: need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te anaerobe: live without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ative anaerobes: can live with or without oxgyen. Ex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c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wth and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Fission: the bacteria divides in ha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ion: Exchange genetic material via a pilus (brid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re Formation: Endospores are enclosed in thick wall. That remain dormant until favorable conditions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mposers: nutrient recyc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 Fixation: convert nitrogen gas into a form plants can 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s and Beve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ing up oil sp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 in our intestines and make vita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6:25:41Z</dcterms:created>
  <dc:creator>Perquimans County Schools</dc:creator>
  <dc:description/>
  <dc:language>en-US</dc:language>
  <cp:lastModifiedBy>Perquimans High School</cp:lastModifiedBy>
  <dcterms:modified xsi:type="dcterms:W3CDTF">2010-01-28T19:33:17Z</dcterms:modified>
  <cp:revision>7</cp:revision>
  <dc:subject/>
  <dc:title>Bacteria &amp; Viruses</dc:title>
</cp:coreProperties>
</file>